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33D-97B3-48B7-8F85-DB23F716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277-F4F8-4093-B7CC-1CDB9BCF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A61-87C1-4E84-998C-DD696D9C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756-85BC-4688-82B2-A9A80186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385-D38C-4ED3-BD64-E7FE88FE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A62-7D3B-43AD-93E3-1154D72A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249-1930-4BC9-86F1-A064CD8A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9F3-0362-4CB2-87E8-EC476DFE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8E2-3EA1-40E0-950C-E7039A92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78A-E070-4EC9-A41B-0A422DF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F99-FC28-4055-B32E-53CDAD3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2EB-FDD6-4710-B487-712556F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59FB-1952-4CF8-ADA7-8CC4EA59FA3F}" type="slidenum"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01120" cy="2232000"/>
          </a:xfrm>
          <a:prstGeom prst="rect">
            <a:avLst/>
          </a:prstGeom>
          <a:solidFill>
            <a:srgbClr val="cc6600">
              <a:alpha val="70000"/>
            </a:srgbClr>
          </a:solidFill>
          <a:ln w="126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: «Деньги, их функции»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333360"/>
            <a:ext cx="828036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Изобретение денег - одно из величайших достижений человечеств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Они – великий созидатель. Там, куда они текут, вырастают улицы, заводы, пустыни превращаются в оазисы, болота – в плодородные нивы… Они – жесточайший тиран. Чем больше человек хочет иметь свободы, тем усерднее вынужден служить и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002440" cy="388944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определить роль денег в обществе через их функции.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256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no Pro"/>
              </a:rPr>
              <a:t>ДЕНЬГИ – </a:t>
            </a:r>
            <a:r>
              <a:rPr b="0" lang="en-US" sz="3000" spc="-1" strike="noStrike">
                <a:solidFill>
                  <a:srgbClr val="000000"/>
                </a:solidFill>
                <a:latin typeface="Arno Pro"/>
              </a:rPr>
              <a:t>специфический товар, который имеет свойство обмениваться на любые другие товары, т.е. является всеобщим эквивалентом.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Схема 4" descr=""/>
          <p:cNvPicPr/>
          <p:nvPr/>
        </p:nvPicPr>
        <p:blipFill>
          <a:blip r:embed="rId2"/>
          <a:stretch/>
        </p:blipFill>
        <p:spPr>
          <a:xfrm>
            <a:off x="900000" y="1969920"/>
            <a:ext cx="72741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no Pro"/>
              </a:rPr>
              <a:t>3.  ФУНКЦИИ ДЕНЕГ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Схема 3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6629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денег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458136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989000"/>
            <a:ext cx="237492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тов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520720" cy="10065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мво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989000"/>
            <a:ext cx="237636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реди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500280"/>
            <a:ext cx="237492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Зол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и се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 слит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любой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500280"/>
            <a:ext cx="2374920" cy="201636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Че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реди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ар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0280"/>
            <a:ext cx="230364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ед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икеле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оне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ум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нь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Постройте логическую цепочку из разрозненных элементов, соблюдая порядок появления денег: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реход от натурального хозяйства к товарному; 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зделение труда и возникновение специализаци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ности соизмерения различных товаров при обмене излишкам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деление особого товара, служащим всеобщим эквивалентом при обмене.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1:05:42Z</dcterms:created>
  <dc:creator>АннА</dc:creator>
  <dc:description/>
  <dc:language>en-US</dc:language>
  <cp:lastModifiedBy>user</cp:lastModifiedBy>
  <dcterms:modified xsi:type="dcterms:W3CDTF">2013-03-20T16:28:22Z</dcterms:modified>
  <cp:revision>21</cp:revision>
  <dc:subject/>
  <dc:title>ТЕМА 1 Сущность и функции денег</dc:title>
</cp:coreProperties>
</file>